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gif" ContentType="image/gif"/>
  <Override PartName="/ppt/media/image7.gif" ContentType="image/gif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A82-FD02-4D11-818B-9FD72DF0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007-BFF5-4B95-A053-0C7C035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974-1572-42C9-8C62-DAD72F38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3B0-BD37-4177-876A-DC55F867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BCB-20FE-4092-9F6A-0A6E84EB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D09-7A58-470B-A782-5000FD5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55C-3F19-48A8-866D-249ED1B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7FF-B3A9-4BD6-816D-EA90245F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199-183A-475D-90D7-5C10A47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34B-BCC5-4369-90C6-87F15631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2EA-C62E-4D74-9CED-C10B824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714-2D94-4912-AC9C-3A2A008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BE9-C700-4DEC-99D3-21173C96C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MS900388236%5B1%5D.wav" TargetMode="External"/><Relationship Id="rId5" Type="http://schemas.microsoft.com/office/2007/relationships/media" Target="file:///tmp/home/.config/libreoffice/4/user/gallery/MS900388236%5B1%5D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MS900069236%5B1%5D.wav" TargetMode="External"/><Relationship Id="rId5" Type="http://schemas.microsoft.com/office/2007/relationships/media" Target="file:///tmp/home/.config/libreoffice/4/user/gallery/MS900069236%5B1%5D.wav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69737%5B1%5D.wav" TargetMode="External"/><Relationship Id="rId2" Type="http://schemas.microsoft.com/office/2007/relationships/media" Target="file:///tmp/home/.config/libreoffice/4/user/gallery/MS900069737%5B1%5D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MS900075030%5B1%5D.wav" TargetMode="External"/><Relationship Id="rId3" Type="http://schemas.microsoft.com/office/2007/relationships/media" Target="file:///tmp/home/.config/libreoffice/4/user/gallery/MS900075030%5B1%5D.wav" TargetMode="External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MS900388330%5B1%5D.wav" TargetMode="External"/><Relationship Id="rId6" Type="http://schemas.microsoft.com/office/2007/relationships/media" Target="file:///tmp/home/.config/libreoffice/4/user/gallery/MS900388330%5B1%5D.wav" TargetMode="External"/><Relationship Id="rId7" Type="http://schemas.openxmlformats.org/officeDocument/2006/relationships/image" Target="../media/image3.png"/><Relationship Id="rId8" Type="http://schemas.openxmlformats.org/officeDocument/2006/relationships/audio" Target="file:///tmp/home/.config/libreoffice/4/user/gallery/MS900069431%5B1%5D.wav" TargetMode="External"/><Relationship Id="rId9" Type="http://schemas.microsoft.com/office/2007/relationships/media" Target="file:///tmp/home/.config/libreoffice/4/user/gallery/MS900069431%5B1%5D.wav" TargetMode="External"/><Relationship Id="rId10" Type="http://schemas.openxmlformats.org/officeDocument/2006/relationships/image" Target="../media/image3.png"/><Relationship Id="rId11" Type="http://schemas.openxmlformats.org/officeDocument/2006/relationships/audio" Target="file:///tmp/home/.config/libreoffice/4/user/gallery/MS900074931%5B1%5D.wav" TargetMode="External"/><Relationship Id="rId12" Type="http://schemas.microsoft.com/office/2007/relationships/media" Target="file:///tmp/home/.config/libreoffice/4/user/gallery/MS900074931%5B1%5D.wav" TargetMode="External"/><Relationship Id="rId13" Type="http://schemas.openxmlformats.org/officeDocument/2006/relationships/image" Target="../media/image3.png"/><Relationship Id="rId14" Type="http://schemas.openxmlformats.org/officeDocument/2006/relationships/audio" Target="file:///tmp/home/.config/libreoffice/4/user/gallery/MS900388531%5B1%5D.wav" TargetMode="External"/><Relationship Id="rId15" Type="http://schemas.microsoft.com/office/2007/relationships/media" Target="file:///tmp/home/.config/libreoffice/4/user/gallery/MS900388531%5B1%5D.wav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388237%5B1%5D.wav" TargetMode="External"/><Relationship Id="rId2" Type="http://schemas.microsoft.com/office/2007/relationships/media" Target="file:///tmp/home/.config/libreoffice/4/user/gallery/MS900388237%5B1%5D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75039%5B1%5D.wav" TargetMode="External"/><Relationship Id="rId2" Type="http://schemas.microsoft.com/office/2007/relationships/media" Target="file:///tmp/home/.config/libreoffice/4/user/gallery/MS900075039%5B1%5D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1143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696080" y="4648320"/>
          <a:ext cx="30492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46483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important to learn how your brain works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be 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1905120" cy="6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477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use what I have learned about the way my brain works in school. I can do this when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las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1981080" cy="17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724280" y="57150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57150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9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9144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3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25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earning style i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means tha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447920" y="2933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42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  <p:seq>
              <p:cTn id="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58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earning technique 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means tha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Ran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52680" y="3024360"/>
            <a:ext cx="3689640" cy="3833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38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104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3915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60199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662940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000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  <p:seq>
              <p:cTn id="4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9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  <p:seq>
              <p:cTn id="4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89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  <p:seq>
              <p:cTn id="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63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7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found out that the left hemisphere of my br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right hemisphere of my brain 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3733560"/>
            <a:ext cx="79246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6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intelligence type 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means tha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9436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3526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flipH="1">
            <a:off x="-360" y="3199680"/>
            <a:ext cx="32958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23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7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4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4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26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7:57Z</dcterms:created>
  <dc:creator>noah</dc:creator>
  <dc:description/>
  <dc:language>en-US</dc:language>
  <cp:lastModifiedBy>noah</cp:lastModifiedBy>
  <dcterms:modified xsi:type="dcterms:W3CDTF">2010-10-26T13:57:48Z</dcterms:modified>
  <cp:revision>5</cp:revision>
  <dc:subject/>
  <dc:title>My personal Learning Profile</dc:title>
</cp:coreProperties>
</file>